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36BE-FAE3-421C-85E8-EE42312F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D82-AC49-442E-930D-27AD45F9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6AF6-8683-443E-9F64-FC33D130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82FB-3ED1-4D0A-89FC-C5E7999A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46F3-E979-4707-BB09-35A84AB2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265B-C8B5-4867-990B-FCFA5B24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A758-0B0F-469A-9F96-5AE44124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F5A8-0DEC-4A30-8305-4B48EE9F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335-D8B8-4B07-8266-3B7A9098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339B-07CC-4C22-824F-AF50E671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0149-2E67-4D28-8B3D-19A9095A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58F6-FFD7-40AF-983D-881CD474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1856-9120-4569-A08D-844E167E1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590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Везикоуретерални рефлукс 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 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рефлуксна нефропат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41800"/>
            <a:ext cx="64008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657600" y="189000"/>
            <a:ext cx="1695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vur-3"/>
          <p:cNvPicPr/>
          <p:nvPr/>
        </p:nvPicPr>
        <p:blipFill>
          <a:blip r:embed="rId1"/>
          <a:stretch/>
        </p:blipFill>
        <p:spPr>
          <a:xfrm>
            <a:off x="601560" y="620640"/>
            <a:ext cx="2479680" cy="3095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vur-4"/>
          <p:cNvPicPr/>
          <p:nvPr/>
        </p:nvPicPr>
        <p:blipFill>
          <a:blip r:embed="rId2"/>
          <a:stretch/>
        </p:blipFill>
        <p:spPr>
          <a:xfrm>
            <a:off x="3290760" y="620640"/>
            <a:ext cx="2479680" cy="309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vur-5"/>
          <p:cNvPicPr/>
          <p:nvPr/>
        </p:nvPicPr>
        <p:blipFill>
          <a:blip r:embed="rId3"/>
          <a:stretch/>
        </p:blipFill>
        <p:spPr>
          <a:xfrm>
            <a:off x="6012000" y="620640"/>
            <a:ext cx="2455560" cy="3065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468360" y="4437000"/>
            <a:ext cx="8136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III степeн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 IV степeн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        V степe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лага дилатација        Умерена дилатација уретера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Д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латaциј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уретера и карлице              зарављене чаш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</a:rPr>
              <a:t>http://www.pedisurg.com/PtEduc/Vesicoureteral_Reflux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УР је асимптоматска аномалија, а клинички се открива у око 85% случајева преко уринарне инфекције, ређе у одмаклом стадијуму преко компликација као што су хипертензија и хронична бубрежна инсуфицијенциј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УР, поготову ако је I, II и III степена има тенденцију да се изгуби и ово се дешава у више од 50% случајева, нарочито у млађем узраст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клоност ка ожиљавању је, међутим, највећа у првим годинама живота, тј. код одојче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оказано је да се  ожиљавање дешава само у првих 5-7 годи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44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олесници са благим степеном ожиљавања, поготову ако немају протеинурију (или не већу од 500 mg/24h), са  нормалним с. креатинином, обично у каснијем животу немају компликациј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вестан број болесника са вишим степеном ожиљавања, односно редукције бубрежног паренхима, има болест прогредијентног тока за коју је прихваћен назив </a:t>
            </a:r>
            <a:r>
              <a:rPr b="0" lang="sr-CS" sz="3000" spc="-1" strike="noStrike" u="sng">
                <a:solidFill>
                  <a:srgbClr val="000000"/>
                </a:solidFill>
                <a:uFillTx/>
                <a:latin typeface="Arial"/>
              </a:rPr>
              <a:t>рефлуксна нефропатиј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ефлуксна нефропат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 је хронична прогредијентна болест коју карактерише ожиљавање бубрега, а настаје као последица ВУР-а и удружених фак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жиљавање бубрега и редукција бубрежног паренхима се дијагностикује помоћу IVP или/и DMSA сцинтиграф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мене на IVP-у које су карактеристичне з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Н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 још 1960. год. описао J. Hodsо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не се састоје од: деформација чашица, различитог степена ожиљавања паренхима (обично изнад деформисаних чашица) и смањења величине бубре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нас је прихваћено да се степен ожиљавања бубрега дефинише по класификацији J. Smel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Механизам настанка ожиљавањ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односно редукције бубрежног паренхима у присуству ВУР-а данас се тумачи на неколико начи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тојање интрареналног рефлукс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ринарна инфекциј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остојање конгениталне дисплазије бубрег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вентуално повишен ретроградни притисак- “чекић” (ово последње важи само за болеснике са опструкцијом и неурогеном дисфункцијом мокраћне бешик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АН ТОК БОЛЕСТИ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Р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 u="sng">
                <a:solidFill>
                  <a:srgbClr val="000000"/>
                </a:solidFill>
                <a:uFillTx/>
                <a:latin typeface="Arial"/>
              </a:rPr>
              <a:t>3 фазе: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чиње  у  одојчета и малог детета. Долази до  иреверзибилног  оштећења паренхим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оже бити асимптоматска. Хипертензија и протеинурија нису запаже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3. Најчешће  се болесници јављају са израженом хипертензијом  или  бубрежном исуфицијенциј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УР I и II степена, и највећи број III   степена треба лечити  конзервативн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УР   В  степена- хирушки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д ВУР-а  III  и IV  до сада  завршене студије не показују   значајне разлике у начину лечења. У  последње време  користи се «стинг»  процедура, тј убризгавање тефлона у везикоуретерелно ушће, чиме се спречава рефликсирање ури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лаговремено лечење уро-инфекција у одојчади и мале деце, при првој инфекциј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 повишеној температури која нема видљиви узрок (пре давања антибиотика) прегледати УРИН и УРИНОКУЛТУР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сле лечења доказане инфекције  урадити потребна испитивањ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д  деце из породица  са ризиком саветује се Ехо бубре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В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УР је термин који означава ретроградно враћање урина из мокраћне бешике у урете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ВУР-а у дечијој популацији није сасвим прецизно установље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појаве уринарних инфекција у деце до 11 година  је 3% за девојчице, а 1% за дечаке.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У 30-50% ових болесника  се налази ВУ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валенца ВУР-а у општој популацији деце се процењује на 0,4 до 1,8%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азирано на епидемиолошким студијама, при истраживању ИУТ у око 2,2% девојчица и 0,6% дечака нађе се ВУ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валенца ВУР-а у деце са ИУТ износи око 31%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ласифик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148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УР може бити примаран и секунда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Примарни ВУР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настаје најчешће због урођене аномалије везикоуретералног споја, која га чини функционално инсуфицијентн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УР има тенденцију да се са узрастом детета губи, јер за то време интравезикални део уретера повећава своју дужи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екундарни ВУР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се јавља често удружен са ектопичним уретерима или дупликацијама уретера. Такође се јавља када постоји анатомска или функционална опструкција уринарног тока дивертикулом, уретероцелом и валвулом задње урет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ебно треба указати на појаву ВУР-а у болесника са неурогеном дисфункцијом мокраћне беши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зависности од тога у којој мери приликом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UCG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нтраст испуњава уретер и пелвикаликсни систем, као и од величине дилатације овог система ВУР се конвенционално градира у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степе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последње време је највише прихваћена класификација Комитета интернационалне студије ВУР-а на пет степе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ЕЗИКОУРЕТЕРАЛНИ РЕЛУК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vur-nl"/>
          <p:cNvPicPr/>
          <p:nvPr/>
        </p:nvPicPr>
        <p:blipFill>
          <a:blip r:embed="rId1"/>
          <a:stretch/>
        </p:blipFill>
        <p:spPr>
          <a:xfrm>
            <a:off x="611280" y="1413000"/>
            <a:ext cx="236700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vur-1"/>
          <p:cNvPicPr/>
          <p:nvPr/>
        </p:nvPicPr>
        <p:blipFill>
          <a:blip r:embed="rId2"/>
          <a:stretch/>
        </p:blipFill>
        <p:spPr>
          <a:xfrm>
            <a:off x="3348000" y="1413000"/>
            <a:ext cx="2363760" cy="2950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vur-2"/>
          <p:cNvPicPr/>
          <p:nvPr/>
        </p:nvPicPr>
        <p:blipFill>
          <a:blip r:embed="rId3"/>
          <a:stretch/>
        </p:blipFill>
        <p:spPr>
          <a:xfrm>
            <a:off x="6184800" y="1413000"/>
            <a:ext cx="2422800" cy="3024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324000" y="4941720"/>
            <a:ext cx="8280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Нормалан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бубрег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I степeн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II степe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уретер и мокраћна беш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</a:rPr>
              <a:t>http://www.pedisurg.com/PtEduc/Vesicoureteral_Reflux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3T00:17:13Z</dcterms:created>
  <dc:creator>Katja</dc:creator>
  <dc:description/>
  <dc:language>en-US</dc:language>
  <cp:lastModifiedBy>User</cp:lastModifiedBy>
  <dcterms:modified xsi:type="dcterms:W3CDTF">2014-08-12T13:41:19Z</dcterms:modified>
  <cp:revision>43</cp:revision>
  <dc:subject/>
  <dc:title>No Slide Title</dc:title>
</cp:coreProperties>
</file>