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_rels/notesSlide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C269B-E5BA-4BB5-B8B0-DCC1CD7F73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77108-F06D-4493-BAFB-BB2AFF2A05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EA724-130F-4226-8F5A-3F52F8A47D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B14BA-8E65-44EB-ACF8-655BC7B56392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E78FC-B48E-4A53-A22C-45FD94823832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605F2-D882-4DB5-9B95-BE56BBD0C4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5404E-D5F2-4F88-BE3F-25B800A2FA68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75176-4FAC-45BC-B80B-C8662C89F821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22F70-B9EE-4083-B553-50A7C0A19927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06F27-E540-4636-A9D4-34FCD539C546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981C9-1691-4362-B2E9-BEFA616414BB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DC28F-2359-4FAE-BC4C-6EFA5F1BA936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E5F38-30B1-4541-A7A9-0BACFB382A0A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482C0-3515-401D-AD3A-177EF570C24A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1AB26-9C96-4C1C-9CA8-A90C2F8D8C60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E298C-DF45-41B2-BCFA-C2E484EA5F1B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235D7-09FA-48A3-913A-8419E5A47536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A7708-9F44-47B1-A293-EB79B36685E5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ECCBA-16F2-43F9-94AD-03B4BD6DCAD3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C4C49-293A-4F68-9D1F-11BF544ACC41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8302C-2FD4-4E0C-83E5-F0203D4EADB5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E8226-192C-4165-B0C4-EC984B9140FB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C682C-ADB3-45DD-857D-D0BC2E419CF3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68A85-452A-4E81-843E-C125ADB9BEC8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84856-1B4E-48C9-9D02-59E9DD6C9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0D142-49A8-47CF-B008-3A71B3656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9C213-F5BA-42A0-AC84-1BBC5DB71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5B245-C412-40EC-89EC-584B061A9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4003A-0E11-4F76-ADE2-A2988318B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335A8-3B27-4FC5-B09B-39C582F7E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B0CB7-74FA-40FE-9163-DB1939EF4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A59A1-1B4C-44B7-B8ED-A96B7D11D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69A0C-AE95-4A2D-8A60-862B714CA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40F96-DBD6-4D5A-939C-DDE10DE3E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68E42-87AD-45CF-83CD-1B2765117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BE2D6-C928-4F46-A103-BEFEB4F40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B169C-F9DD-4134-BBAD-C73E6156A7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7360" y="2958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Arial"/>
              </a:rPr>
              <a:t>ГЛОМЕРУЛОПАТИЈ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4786200"/>
            <a:ext cx="6400800" cy="8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3200" spc="-1" strike="noStrike">
                <a:solidFill>
                  <a:srgbClr val="000000"/>
                </a:solidFill>
                <a:latin typeface="Arial"/>
              </a:rPr>
              <a:t>Проф. др Ана Вуји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3657600" y="274680"/>
            <a:ext cx="169560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Arial"/>
              </a:rPr>
              <a:t>Клиничка сли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Хипертензија је трећи кардинални знак АПСГН и евидентирана је код 50-90% деце хоспитализоване због ове боле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Хипертензивна енцефалопатија је виђена у приближно 5% хоспитализоване деце и представља најозбиљнију рану комликацију ове боле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ви пацијенти имају тешку хипертензију (200/120 mмHg) удружену са знацима дисфункције ЦНС-а (главобоља, повраћање, сензорна депресија, конфузија, визуелни поремећаји, афазија, губитак памћења,конвулзије, кома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Хипертензивна енцефалопатија се виђе и код пацијената без или са минималним едемом и минималним уринарним абнормалностима</a:t>
            </a:r>
            <a:r>
              <a:rPr b="0" lang="sr-CS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Arial"/>
              </a:rPr>
              <a:t>Клиничка сли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28760" y="1268280"/>
            <a:ext cx="8464320" cy="49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Циркулаторна конгестија је уочљива код већине хоспитализоване деце, али је одговорна само за врло ране симптоме: диспнеја, ортопнеја, кашаљ; аускултацијом плућа чују се инспираторо-експираторни пуко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Понекад је једини знак циркулаторне конгестије увећана срчана сенк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а тзв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телерадиографији, мада је ср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ча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на инсуфицијенција ретка појава код пацијената са иначе здравим кардиоваскуларним системом; срчана радња може бити тахикардична или брадикардич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Бледило се обично јавља на почетку болести и не може се потпуно објаснити анемиј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06668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Arial"/>
              </a:rPr>
              <a:t>Дијагноза –налаз  у урин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Хематурија је најчешћа уринарна абнормалност при чему се у 60-85% случајева деце хоспитализоване због (АПСГН) налазе еритроцитни цилиндри као доказ гломеруларне лез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отеинурија  не прелази 2 g/m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²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/дан; само 2-5% деце са АПСГН има протеинурију нефротског тип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пецифична тежина урина је обично повишена, а способност ацидификације очува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06668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Arial"/>
              </a:rPr>
              <a:t>Дијагноза-докази стрептококне инфекциј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Bris guše i kože mogu, a ne moraju biti pozitivni kod APSG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У употреби су бројни лабораторијски тестови који мере титар антитела на различите стрептококне антигене (ASO, AH, Anti DNAaze B) или комбинације антигена; значајно је пратитити кретање титра после 2-3 недеље болест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06668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Arial"/>
              </a:rPr>
              <a:t>Дијагноза-хемолитички комлпемен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За време АПСГН опада титар тоталног хемолитичког комплемента и појединих његових компоненти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Нађено је да концентрација</a:t>
            </a:r>
            <a:r>
              <a:rPr b="0" lang="sr-CS" sz="2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C3 опада код више од 90% деце када се мери у прве две недеље болести, док је ниво C4 често нормалан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Ниво C5 и пропердина такође опад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Ниво комплемента се у целини враћа на нормалу за 6-8 недеља од почетка болести</a:t>
            </a:r>
            <a:r>
              <a:rPr b="0" lang="sr-CS" sz="26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8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Arial"/>
              </a:rPr>
              <a:t>Дијагноза-докази бубрежне инсуфицијенције</a:t>
            </a:r>
            <a:r>
              <a:rPr b="1" i="1" lang="sr-CS" sz="3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lvl="1" marL="764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0200" indent="-520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овећање серумске концентрације креатинина и азотних материја је умерено, мада неки пацијенти могу имати тешку азотемиј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0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0200" indent="-520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Електролитни профил  је обично нормалан;  хиперкалемија и метаболичка ацидоза су присутне само код пацијената са значајно смањеном функцијом бубре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0200" indent="-520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од пацијената са клиничком сликом Нефротског синдрома може бити снижен укупни серумски 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0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0200" indent="-520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Блага анемија (нормоцитна, нормохромна) је честа у раној фази АПСГН при чему њен степен одговара степену експанзије екстрацелуларног волуме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Arial"/>
              </a:rPr>
              <a:t>Дијагноз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Ренална ултрасонографија је обично нормална или показује благо билатерално увећање бубрега са порастом ехогености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Радиографија срца и плућа показује увећану срчану сенку и централну венску конгестију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Ренална биопсија је индикована код пацијената чија је клиничка слика, лабораторијски налази и ток болести атипичан; хистолошки налаз се заснива на налазу светлосне, имунофлуоресцентне и електронске микроскопије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06668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Arial"/>
              </a:rPr>
              <a:t>Дијагноза-патохистолошки нала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Посматрано светлосним микроскопом гломеруларне промене су генерализоване и дифузне; гломерулска петља је увећана и проширена са умерено повећаном пролиферацијом мезангијалних и епителних ћелија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Код особа са најтежим обликом болести гломерули изгледају бескрвно јер едем капиларног зида омета перфузију гломерул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Из претходног можемо закључити да постоји директна корелација између тежине хистолошких промена и клиничких манифестација болести у акутној фази АПСГН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00040" y="2142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Arial"/>
              </a:rPr>
              <a:t>Дијагноза-патохистолошки нала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Када се исечак бубрежног ткива особе оболеле од АПСГН, добијен биопсијом, анализира имунофлоресцентним микроскопом-налаз су гранулирани депозити</a:t>
            </a:r>
            <a:r>
              <a:rPr b="0" lang="sr-CS" sz="2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IgG и C3; ређе се у овим депозитима налазе IgM, IgA, C4, пропердин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Електронском микроскопијом  бубрежног ткива код пацијената са АПСГН виде се субепителни густи депозити попут грбе или брежуљк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Диференцијална дијагноз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457200" y="1600200"/>
          <a:ext cx="8229600" cy="4251240"/>
        </p:xfrm>
        <a:graphic>
          <a:graphicData uri="http://schemas.openxmlformats.org/drawingml/2006/table">
            <a:tbl>
              <a:tblPr/>
              <a:tblGrid>
                <a:gridCol w="4186080"/>
                <a:gridCol w="40435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стинфективни гломерулнофритис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стстрептококни и после др. бактеријских инфекциј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сле вирусних инфекциј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сле паразитарних инфекциј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gA-</a:t>
                      </a: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удружени гломерулонефритис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noch-Shonlein purpura (HSP) </a:t>
                      </a: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фрити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руги 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gA </a:t>
                      </a: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фритиси  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Berger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ронични 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тали (мање чести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ант нефрити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амилијарни нефрити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пидно прогресивни 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LE </a:t>
                      </a: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фрити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6"/>
          <p:cNvSpPr/>
          <p:nvPr/>
        </p:nvSpPr>
        <p:spPr>
          <a:xfrm>
            <a:off x="2860200" y="500400"/>
            <a:ext cx="23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08000" y="2871000"/>
            <a:ext cx="8705880" cy="39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                                   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00"/>
                </a:solidFill>
                <a:latin typeface="Arial"/>
                <a:ea typeface="Times New Roman"/>
              </a:rPr>
              <a:t>	</a:t>
            </a:r>
            <a:r>
              <a:rPr b="0" i="1" lang="en-US" sz="1600" spc="-1" strike="noStrike">
                <a:solidFill>
                  <a:srgbClr val="ffff00"/>
                </a:solidFill>
                <a:latin typeface="Arial"/>
                <a:ea typeface="Times New Roman"/>
              </a:rPr>
              <a:t>	</a:t>
            </a:r>
            <a:r>
              <a:rPr b="0" i="1" lang="en-US" sz="1600" spc="-1" strike="noStrike">
                <a:solidFill>
                  <a:srgbClr val="ffff00"/>
                </a:solidFill>
                <a:latin typeface="Arial"/>
                <a:ea typeface="Times New Roman"/>
              </a:rPr>
              <a:t>	</a:t>
            </a:r>
            <a:r>
              <a:rPr b="0" i="1" lang="en-US" sz="1600" spc="-1" strike="noStrike">
                <a:solidFill>
                  <a:srgbClr val="ffff00"/>
                </a:solidFill>
                <a:latin typeface="Arial"/>
                <a:ea typeface="Times New Roman"/>
              </a:rPr>
              <a:t>	</a:t>
            </a:r>
            <a:r>
              <a:rPr b="0" i="1" lang="en-US" sz="1600" spc="-1" strike="noStrike">
                <a:solidFill>
                  <a:srgbClr val="ffff00"/>
                </a:solidFill>
                <a:latin typeface="Arial"/>
                <a:ea typeface="Times New Roman"/>
              </a:rPr>
              <a:t>	</a:t>
            </a:r>
            <a:r>
              <a:rPr b="0" i="1" lang="en-US" sz="1600" spc="-1" strike="noStrike">
                <a:solidFill>
                  <a:srgbClr val="ffff00"/>
                </a:solidFill>
                <a:latin typeface="Arial"/>
                <a:ea typeface="Times New Roman"/>
              </a:rPr>
              <a:t>	</a:t>
            </a:r>
            <a:r>
              <a:rPr b="0" i="1" lang="en-US" sz="1600" spc="-1" strike="noStrike">
                <a:solidFill>
                  <a:srgbClr val="ffff00"/>
                </a:solidFill>
                <a:latin typeface="Arial"/>
                <a:ea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1063800" y="2852640"/>
            <a:ext cx="6748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ОСТСТРЕПТОКОКНЕ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ЕКВЕЛ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АКУТНИ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ГЛОМЕРУЛОНЕФРИТИ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06668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Arial"/>
              </a:rPr>
              <a:t>Терапиј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Када се испоље симптоми  АПСГН лезија гломерула се већ догодила и процес  излечења је почео. То значи да је прекасно за примену специфичне терапије против узрочника нефритиса. Супротно овоме одговарајућа терапија која је потпорна и директно усмерена на превенцију комликација  може значајно утицати на морбидитет и рани морталите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Хоспитализација је индикована код деце са значајном хипертензијом или комбинацијом олигурије, генерализованих едема и повишене концентрације серумског креатинина или калијум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06668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Arial"/>
              </a:rPr>
              <a:t>Терапија</a:t>
            </a:r>
            <a:r>
              <a:rPr b="1" lang="sr-CS" sz="4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Тешка хипертензија удружена са знацима централне дисфункције захтева хитну примену медикамената као што су: лабеталол</a:t>
            </a:r>
            <a:r>
              <a:rPr b="0" lang="sr-CS" sz="25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(0,5-2mg/kg/h iv), диазоxид или нитропрусид (0,5-2mcg/kg/min iv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Тешка хипертензија без енцефалопатије се лечи најчешће применом вазодилататора као што су хидралазин или нифедипин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Блага или умерена хипертензија не захтева хитну примену терапије која подразумева мировање, рестрикцију уноса течности и ређе примену претходно наведених лекова (фуросемид, хидралазин); ACE инхибитори могу довести до хиперкалемије и обично нису лекови  првог реда код АПСГН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06668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Arial"/>
              </a:rPr>
              <a:t>Терапиј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624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Едем и циркулаторна конгестија као последица олигурије захтевају рестрикцију уноса течности тако да се надокнађују само тзв. “невидљиви губици”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Диуретици примењени пер ос скраћују дужину хоспитализације едематозне деце, а код теже конгестије се дају парентерално (фуросемид 2mg/kg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Стероидна терапија је индикована код пацијената са тешким обликом и рапидно-прогресивним G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Arial"/>
              </a:rPr>
              <a:t>Терапиј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39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Пеницилин се може применити да не би дошло до контактне инфекције са нефритогеним стрептококом мада у већини случајева ови контакти не доводе до АГН; ова терапија не утиче на ток болести, али може изменити имунолошки одговор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Узимањем култура од најближих чланова породице могу се открити пацијенти са асимптоматским обликом АПСГН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28760" y="3571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Arial"/>
              </a:rPr>
              <a:t>Дијета и физичка активнос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Неслана, ниско-протеинска дијета се прописује у акутној фази болести када су присутни едеми и хипертензиј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Ограничен унос течности и соли се препоручује код деце  која имају било олигурију или едем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Ограничена физичка активност је индикована, у раној фази болести, код пацијената са хипертензијом и/или макрохематуријом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Дуже мировање не утиче нити на ток болести ни на дугорочну прогнозу, па се не препоручује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Arial"/>
              </a:rPr>
              <a:t>Консултациј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65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онсултација педијатра-нефролога је неопходна када су присутни један или више од доле наведених проблем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5920" indent="-5659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Тешка хипертенз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5920" indent="-5659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Тешка олигур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5920" indent="-5659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Генерализовани еде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5920" indent="-5659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ефротска протеинур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5920" indent="-5659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Азотем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5920" indent="-5659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Рекурентна макрохематур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5920" indent="-5659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ерзистирање ниског нивоа C3 (дуже од 8-10 недељ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5920" indent="-5659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Атипичан почетак болести (без латентног педиода или доказа стрептоконе инфекциј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5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Arial"/>
              </a:rPr>
              <a:t>Консултациј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Изостанак очекиване резолуције клиничких знакова АПСГН такође захтева консултацију педијатра-нефролога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Макрохематурије унутар првих 10-14 дан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Микрохематурије у току годину дан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Едема за 2 недеље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Протеинурије (&gt;50</a:t>
            </a:r>
            <a:r>
              <a:rPr b="0" lang="sr-Latn-CS" sz="2500" spc="-1" strike="noStrike">
                <a:solidFill>
                  <a:srgbClr val="000000"/>
                </a:solidFill>
                <a:latin typeface="Arial"/>
              </a:rPr>
              <a:t>mg/dl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) за 6 месеци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Азотемије за недeљу дан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Хипертeнзије за 6 нeдeлј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06668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Arial"/>
              </a:rPr>
              <a:t>Прогноз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Коначни исход код особа оболелих од АПСГН зависи у великој мери од тежине иницијалног оштећења гломерула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Само код неколицине хоспитализованих пацијената је иницијално оштећење тако тешко да или перзистира бубрежна инсуфицијенција или прогредира у бубрежну инсуфицијенцију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Код већине оболелих долази до комплетне хистолошке регресије болести и коначан исход је добар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Секундарне епизоде АПСГН су ретка појава, мада се клиничке манифестације болести могу јавити после прва 3 месец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9999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9999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9999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9999"/>
                </a:solidFill>
                <a:latin typeface="Times New Roman"/>
              </a:rPr>
              <a:t>	</a:t>
            </a:r>
            <a:r>
              <a:rPr b="1" lang="sr-CS" sz="4400" spc="-1" strike="noStrike">
                <a:solidFill>
                  <a:srgbClr val="000000"/>
                </a:solidFill>
                <a:latin typeface="Times New Roman"/>
              </a:rPr>
              <a:t>Нефротски синдро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Times New Roman"/>
              </a:rPr>
              <a:t>Нефротски синдро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9999"/>
                </a:solidFill>
                <a:latin typeface="Times New Roman"/>
              </a:rPr>
              <a:t>	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Нефротски синдром у деце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је клиничко стање које карактерише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Times New Roman"/>
              </a:rPr>
              <a:t>масивна протеинурија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Times New Roman"/>
              </a:rPr>
              <a:t>хипопротеинемија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Times New Roman"/>
              </a:rPr>
              <a:t>хиперлипидемија 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Times New Roman"/>
              </a:rPr>
              <a:t>едем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06668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Arial"/>
              </a:rPr>
              <a:t>Дефинициј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Акутни постстрептококни гломерулонегритис (АПСГН)  је акутно, имунолошким механизмима изазвано запаљење бубрега, које настаје, секундарно, као последица инфекције гуше или коже нефритогеним типовима β хемолитичког стреотокока групе 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(АПСГН)  је најшешће несупуративно обољење бубрега у деце при чему велики број оболелих особа има благи или асимптоматски облик болести (однос броја асимптоматских према броју симптоматских пацијената варира од 2:1 до 3:1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Најчешћи синоними за нефротски синдром у деце су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«Липоидна нефроза»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Болест епителних ћелија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Кортикостероид сензитиван нефротски синдром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«Nil Disease»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Идиопатски нефротски синдром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Minimal Changes Nephrotic Syndrome (MCN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Times New Roman"/>
              </a:rPr>
              <a:t>	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Учесталост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Times New Roman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MCNS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је најчеши облик нефротског синдрома у деце и јавља се у узрасту од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16 месеци до 16 година, улавном до шест година. У овој популацији учесталост се креће и до 90%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Тачни подаци о обољевању у нашој землји не постој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Географска распрострањеност није једна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MCNS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није наследно обољење,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али ј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запажено да се фамилијарни случајеви јављају чешћ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чешће оболјевају дечаци (2:1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6840" y="836280"/>
            <a:ext cx="80010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Патогенеза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 није добро разјашњена још увек, али се сматра да занчајну улогу имају поремећаји функције Т лимфоцита или/и моноцита који стварају цитокине и неке друге факторе васкуларне пермеабилности, који доводе до повећане пропустљивости</a:t>
            </a:r>
            <a:r>
              <a:rPr b="0" lang="sr-CS" sz="3200" spc="-1" strike="noStrike">
                <a:solidFill>
                  <a:srgbClr val="009999"/>
                </a:solidFill>
                <a:latin typeface="Times New Roman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GMB</a:t>
            </a:r>
            <a:r>
              <a:rPr b="0" lang="sr-Latn-CS" sz="3200" spc="-1" strike="noStrike">
                <a:solidFill>
                  <a:srgbClr val="009999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и протеинурије. Заправо долази до губитка прстастих наставака епителијалних ћелија (подоцита) што резултира протеинуријом и следственом хипопротеинемијо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поремећај функције</a:t>
            </a:r>
            <a:r>
              <a:rPr b="0" lang="sr-CS" sz="3200" spc="-1" strike="noStrike">
                <a:solidFill>
                  <a:srgbClr val="009999"/>
                </a:solidFill>
                <a:latin typeface="Times New Roman"/>
              </a:rPr>
              <a:t> 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T Ly  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и/или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 Mo    →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фактори васкуларне пермеабилности - </a:t>
            </a:r>
            <a:r>
              <a:rPr b="0" i="1" lang="sr-CS" sz="3200" spc="-1" strike="noStrike">
                <a:solidFill>
                  <a:srgbClr val="000000"/>
                </a:solidFill>
                <a:latin typeface="Times New Roman"/>
              </a:rPr>
              <a:t>цитокини 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↑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пропустљивост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GMB +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протеинур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губитак прстастих наставака подоцита 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протеинур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хипопротеинем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3"/>
          <p:cNvSpPr/>
          <p:nvPr/>
        </p:nvSpPr>
        <p:spPr>
          <a:xfrm>
            <a:off x="1763640" y="220680"/>
            <a:ext cx="67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Garamond"/>
              </a:rPr>
              <a:t>Патогене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Механизам настанка едема у нефротском синдрому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 је битно другачији него у нефритичном синдрому. Повећање пропустљивости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GBM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за протеине доводи до масивне протеинурије и консекутивне хипопротеинемије. Ово има за последицу снижење онкотског притиска, што доводи до преласка течности из васкуларног у интерстицијски простор, тј. до стварања едема. Због тим процесом изазване хиповолемије активира се ренин-ангиотензин-алдостерон систем, а хиповолемија и хемоконцентрација стимулишу лучење антидиуретског хормона. Удружени ефекти активације хормонског система имају за последицу ретенцију воде и натријума, који се због сниженог онкотског притиска задржавају у интерстицијуму и тако се затвара цирцулус витиосус у механизму настанка едема у нефротском синдром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9999"/>
                </a:solidFill>
                <a:latin typeface="Times New Roman"/>
              </a:rPr>
              <a:t>	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Механизам настанка едема у нефротском синдрому: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Times New Roman"/>
              </a:rPr>
              <a:t>▪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↑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пропустљивост</a:t>
            </a:r>
            <a:r>
              <a:rPr b="0" lang="sr-CS" sz="3200" spc="-1" strike="noStrike">
                <a:solidFill>
                  <a:srgbClr val="009999"/>
                </a:solidFill>
                <a:latin typeface="Times New Roman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GMB</a:t>
            </a:r>
            <a:r>
              <a:rPr b="0" lang="sr-Latn-CS" sz="3200" spc="-1" strike="noStrike">
                <a:solidFill>
                  <a:srgbClr val="009999"/>
                </a:solidFill>
                <a:latin typeface="Times New Roman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протеинурија →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хипопротеинем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↓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онкотског притиска преласка течности из васкуларног у интерстицијски простор →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ед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Хиповолемије →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RA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+ Хемоконцентрација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→ AD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Последица: ретенција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O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Na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↓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онкотског притис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sr-CS" sz="3600" spc="-1" strike="noStrike">
                <a:solidFill>
                  <a:srgbClr val="000000"/>
                </a:solidFill>
                <a:latin typeface="Times New Roman"/>
              </a:rPr>
              <a:t>еде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sr-Latn-CS" sz="4000" spc="-1" strike="noStrike">
                <a:solidFill>
                  <a:srgbClr val="000000"/>
                </a:solidFill>
                <a:latin typeface="Times New Roman"/>
              </a:rPr>
              <a:t>circulus vitios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Times New Roman"/>
              </a:rPr>
              <a:t>	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Клиничка слик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Основна клиничка манифестација јесте еде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У почетку болести настаје постепено тако да родитељи помисле да је </a:t>
            </a:r>
            <a:r>
              <a:rPr b="0" lang="sr-Latn-CS" sz="3200" spc="-1" strike="noStrike" u="sng">
                <a:solidFill>
                  <a:srgbClr val="000000"/>
                </a:solidFill>
                <a:uFillTx/>
                <a:latin typeface="Times New Roman"/>
              </a:rPr>
              <a:t>дете добило у тежини.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Првих дана опште стање није много поремећено тако да лекар </a:t>
            </a:r>
            <a:r>
              <a:rPr b="0" lang="sr-Latn-CS" sz="3200" spc="-1" strike="noStrike" u="sng">
                <a:solidFill>
                  <a:srgbClr val="000000"/>
                </a:solidFill>
                <a:uFillTx/>
                <a:latin typeface="Times New Roman"/>
              </a:rPr>
              <a:t>ако не уради анализу урин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може да помисли на алергиј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Times New Roman"/>
              </a:rPr>
              <a:t>Појави едема углавном (не увек) претходи нека инфекција. Уколико се на време не препозна едем може постати јако изражен (анасарка, асцитес). Постоји универзална анасарка и изливи у абдоминалну дупљу, а много ређе (не зна се зашто) у плеуралну дупљу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Times New Roman"/>
              </a:rPr>
              <a:t>Често имају оток лабија и скротума. Некада долази до пуцања коже и изласка едемске течности. Деца су бледа, без живости, уморна и радо сама леже у кревету. Мекане ушне шкољке и бразде на ноктима се могу запазити ако је болест дуже трајал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06668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Arial"/>
              </a:rPr>
              <a:t>Епидемиологија</a:t>
            </a:r>
            <a:r>
              <a:rPr b="1" i="1" lang="sr-CS" sz="4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АПСГН може бити епидемијски, али се чешће јавља спорадично и при томе има сезонски каракте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ајчешћи серотипови β хемолитичког стреотокока групе А који изазивају нефритис су тип 12 када су у питању назофарингеалне инфекције и тип 49 у случају пиодермиј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од особа са ринофарингитом латентни период до појаве АПСГН изноди приближно 10 дана при чему је код више од 80% пацијената повишен титар антистрептолизина О у серум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од особа са променама на кожи теже је утврдити латентни период, а пораст АСО титра је нађен у само 50% случајев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9999"/>
                </a:solidFill>
                <a:latin typeface="Times New Roman"/>
              </a:rPr>
              <a:t>	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</a:rPr>
              <a:t>Олигурија је изражена у скоро свих болесника у почетку болести, па када се изгуби може се видети да су болесници потхрањени. Клиничка запажања казују да ови болесници имају повећану склоност ка</a:t>
            </a:r>
            <a:r>
              <a:rPr b="0" lang="sr-R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</a:rPr>
              <a:t>тромбоемболијама, најчешће у реналним и плућним венама. Због ретенције воде и соли деца мога добити на тежини и до 20%. Болесници су склони инфекцијама (Грам позитивне и Грам негативне бактерије); лече се антибиотицима широког спектра и Пеницилином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57200" y="304560"/>
            <a:ext cx="8229600" cy="614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Лабораторијске анализ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300" spc="-1" strike="noStrike">
                <a:solidFill>
                  <a:srgbClr val="000000"/>
                </a:solidFill>
                <a:latin typeface="Times New Roman"/>
              </a:rPr>
              <a:t>Најзначајнији поремећај који постоји у ових болесника је </a:t>
            </a:r>
            <a:r>
              <a:rPr b="1" lang="sr-CS" sz="2300" spc="-1" strike="noStrike">
                <a:solidFill>
                  <a:srgbClr val="000000"/>
                </a:solidFill>
                <a:latin typeface="Times New Roman"/>
              </a:rPr>
              <a:t>протеинурија</a:t>
            </a:r>
            <a:r>
              <a:rPr b="0" lang="sr-CS" sz="2300" spc="-1" strike="noStrike">
                <a:solidFill>
                  <a:srgbClr val="000000"/>
                </a:solidFill>
                <a:latin typeface="Times New Roman"/>
              </a:rPr>
              <a:t>, која је у исто време и дијагностичка вредност. Протеинурија је «нефротска» ако је већа од 50 </a:t>
            </a:r>
            <a:r>
              <a:rPr b="0" lang="sr-Latn-CS" sz="2300" spc="-1" strike="noStrike">
                <a:solidFill>
                  <a:srgbClr val="000000"/>
                </a:solidFill>
                <a:latin typeface="Times New Roman"/>
              </a:rPr>
              <a:t>mg/kg/24h </a:t>
            </a:r>
            <a:r>
              <a:rPr b="0" lang="sr-CS" sz="2300" spc="-1" strike="noStrike">
                <a:solidFill>
                  <a:srgbClr val="000000"/>
                </a:solidFill>
                <a:latin typeface="Times New Roman"/>
              </a:rPr>
              <a:t>или пак </a:t>
            </a:r>
            <a:r>
              <a:rPr b="0" lang="sr-Latn-CS" sz="2300" spc="-1" strike="noStrike">
                <a:solidFill>
                  <a:srgbClr val="000000"/>
                </a:solidFill>
                <a:latin typeface="Times New Roman"/>
              </a:rPr>
              <a:t>40mg/h/m² </a:t>
            </a:r>
            <a:r>
              <a:rPr b="0" lang="sr-CS" sz="2300" spc="-1" strike="noStrike">
                <a:solidFill>
                  <a:srgbClr val="000000"/>
                </a:solidFill>
                <a:latin typeface="Times New Roman"/>
              </a:rPr>
              <a:t>(у ноћном урину). </a:t>
            </a:r>
            <a:r>
              <a:rPr b="1" lang="sr-CS" sz="2300" spc="-1" strike="noStrike">
                <a:solidFill>
                  <a:srgbClr val="000000"/>
                </a:solidFill>
                <a:latin typeface="Times New Roman"/>
              </a:rPr>
              <a:t>Хипопротеинемија</a:t>
            </a:r>
            <a:r>
              <a:rPr b="0" lang="sr-CS" sz="2300" spc="-1" strike="noStrike">
                <a:solidFill>
                  <a:srgbClr val="000000"/>
                </a:solidFill>
                <a:latin typeface="Times New Roman"/>
              </a:rPr>
              <a:t> је изражена јер су обично серумски протеини веома снижени, мањи од 50 </a:t>
            </a:r>
            <a:r>
              <a:rPr b="0" lang="sr-Latn-CS" sz="2300" spc="-1" strike="noStrike">
                <a:solidFill>
                  <a:srgbClr val="000000"/>
                </a:solidFill>
                <a:latin typeface="Times New Roman"/>
              </a:rPr>
              <a:t>g/l, </a:t>
            </a:r>
            <a:r>
              <a:rPr b="0" lang="sr-CS" sz="2300" spc="-1" strike="noStrike">
                <a:solidFill>
                  <a:srgbClr val="000000"/>
                </a:solidFill>
                <a:latin typeface="Times New Roman"/>
              </a:rPr>
              <a:t>а један број болесника има и мању вредност од 40 </a:t>
            </a:r>
            <a:r>
              <a:rPr b="0" lang="sr-Latn-CS" sz="2300" spc="-1" strike="noStrike">
                <a:solidFill>
                  <a:srgbClr val="000000"/>
                </a:solidFill>
                <a:latin typeface="Times New Roman"/>
              </a:rPr>
              <a:t>g/l. </a:t>
            </a:r>
            <a:r>
              <a:rPr b="0" lang="sr-CS" sz="2300" spc="-1" strike="noStrike">
                <a:solidFill>
                  <a:srgbClr val="000000"/>
                </a:solidFill>
                <a:latin typeface="Times New Roman"/>
              </a:rPr>
              <a:t>Макрохематурија је изузетна, а микрохематурија може да се нађе у врло малом броју болесника са </a:t>
            </a:r>
            <a:r>
              <a:rPr b="0" lang="sr-Latn-CS" sz="2300" spc="-1" strike="noStrike">
                <a:solidFill>
                  <a:srgbClr val="000000"/>
                </a:solidFill>
                <a:latin typeface="Times New Roman"/>
              </a:rPr>
              <a:t>MCNS. </a:t>
            </a:r>
            <a:r>
              <a:rPr b="1" lang="sr-CS" sz="2300" spc="-1" strike="noStrike">
                <a:solidFill>
                  <a:srgbClr val="000000"/>
                </a:solidFill>
                <a:latin typeface="Times New Roman"/>
              </a:rPr>
              <a:t>Хиперлипидемија</a:t>
            </a:r>
            <a:r>
              <a:rPr b="0" lang="sr-CS" sz="2300" spc="-1" strike="noStrike">
                <a:solidFill>
                  <a:srgbClr val="000000"/>
                </a:solidFill>
                <a:latin typeface="Times New Roman"/>
              </a:rPr>
              <a:t> је један од главних знакова за нефротски синдром. Ниво укупног с. холестерола и фосфолипида је повишен. Триглицериди могу бити повишени, али не увек</a:t>
            </a:r>
            <a:r>
              <a:rPr b="0" lang="sr-Latn-CS" sz="2300" spc="-1" strike="noStrike">
                <a:solidFill>
                  <a:srgbClr val="000000"/>
                </a:solidFill>
                <a:latin typeface="Times New Roman"/>
              </a:rPr>
              <a:t>. LDL </a:t>
            </a:r>
            <a:r>
              <a:rPr b="0" lang="sr-CS" sz="2300" spc="-1" strike="noStrike">
                <a:solidFill>
                  <a:srgbClr val="000000"/>
                </a:solidFill>
                <a:latin typeface="Times New Roman"/>
              </a:rPr>
              <a:t>је повишен у почетку болести, а за </a:t>
            </a:r>
            <a:r>
              <a:rPr b="0" lang="sr-Latn-CS" sz="2300" spc="-1" strike="noStrike">
                <a:solidFill>
                  <a:srgbClr val="000000"/>
                </a:solidFill>
                <a:latin typeface="Times New Roman"/>
              </a:rPr>
              <a:t>HDL </a:t>
            </a:r>
            <a:r>
              <a:rPr b="0" lang="sr-CS" sz="2300" spc="-1" strike="noStrike">
                <a:solidFill>
                  <a:srgbClr val="000000"/>
                </a:solidFill>
                <a:latin typeface="Times New Roman"/>
              </a:rPr>
              <a:t>су подељена мишлјења. У </a:t>
            </a:r>
            <a:r>
              <a:rPr b="1" lang="sr-CS" sz="2300" spc="-1" strike="noStrike">
                <a:solidFill>
                  <a:srgbClr val="000000"/>
                </a:solidFill>
                <a:latin typeface="Times New Roman"/>
              </a:rPr>
              <a:t>седименту урина</a:t>
            </a:r>
            <a:r>
              <a:rPr b="0" lang="sr-CS" sz="2300" spc="-1" strike="noStrike">
                <a:solidFill>
                  <a:srgbClr val="000000"/>
                </a:solidFill>
                <a:latin typeface="Times New Roman"/>
              </a:rPr>
              <a:t> у едемској и олигуричној фази могу се запазити бројне масне капи, овална масна тела, дегенерисане тубулске ћелије и бројни хијалини и хијалино-масни цилиндри. Јачина гломерулске филтрације у већини болесника је нормална, комплемент је у референтним вредностима. </a:t>
            </a:r>
            <a:r>
              <a:rPr b="0" lang="sr-Latn-CS" sz="2300" spc="-1" strike="noStrike">
                <a:solidFill>
                  <a:srgbClr val="000000"/>
                </a:solidFill>
                <a:latin typeface="Times New Roman"/>
              </a:rPr>
              <a:t>SE </a:t>
            </a:r>
            <a:r>
              <a:rPr b="0" lang="sr-CS" sz="2300" spc="-1" strike="noStrike">
                <a:solidFill>
                  <a:srgbClr val="000000"/>
                </a:solidFill>
                <a:latin typeface="Times New Roman"/>
              </a:rPr>
              <a:t>је повишена (троцифрена)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333000"/>
            <a:ext cx="29624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Лабораторијске анализ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▪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Протеинурија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&gt; од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50 mg/kg/24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▪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Хипопротеинемија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&lt; од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40 g/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▪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Хиперлипидемиј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↑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с. холестерола и фосфолипид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↑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Триглицериди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- LDL i HD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▪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Седименту урина: масне капи, овална масна тела, дегенерисане тубулске ћелије, бројни хијалини и хијалино-масни цилиндр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▪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SE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троцифрена</a:t>
            </a:r>
            <a:r>
              <a:rPr b="0" lang="sr-CS" sz="2800" spc="-1" strike="noStrike">
                <a:solidFill>
                  <a:srgbClr val="00999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Лечење: У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првој епизоди нефротског синдрома потребна је хоспитализација детета, не само ради постављања дијагнозе и лечења, већ и због информисања родитеља о обољењ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Лечење је компликовано, а терапија се може поделити на симптоматску и специфичну (кортикостероиди, имуносупресиви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Пожељно је пре започињања било које терапије искључити секундарни нефротски синдром, као и друге облике овог синдрома до којих углавном долазимо биопсијом бубрег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9999"/>
                </a:solidFill>
                <a:latin typeface="Times New Roman"/>
              </a:rPr>
              <a:t>	</a:t>
            </a:r>
            <a:r>
              <a:rPr b="1" i="1" lang="sr-CS" sz="2400" spc="-1" strike="noStrike" u="sng">
                <a:solidFill>
                  <a:srgbClr val="000000"/>
                </a:solidFill>
                <a:uFillTx/>
                <a:latin typeface="Times New Roman"/>
              </a:rPr>
              <a:t>Симптоматска терапија: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У фази едема треба ограничити унос течности и дати неслану храну са оптималним уносом протеин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Уколико су едеми јаче изражени може се дати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фуросемид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од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9999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0,5-3 mg/kg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у про дози (може се поновити два пута за 24 сата).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Опрез- хиповолемијски шок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У случају изражених едема дати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хумане албумине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0,5-1 g/kg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у инфузији која траје око 1-2 сата и на крају фуросеми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Активност болесника се ограничава у едемској фази (дете ће само да легне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Исхрана углавном неслана, касније се дозвољава мањи унос со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Ако болест дуго траје може се дaти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Vit. D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Ca</a:t>
            </a:r>
            <a:r>
              <a:rPr b="0" lang="sr-Latn-CS" sz="2400" spc="-1" strike="noStrike">
                <a:solidFill>
                  <a:srgbClr val="009999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Код јако изражене хиперлипидемије могу се дати статини (нема студија у деце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sr-Latn-CS" sz="3200" spc="-1" strike="noStrike" u="sng">
                <a:solidFill>
                  <a:srgbClr val="000000"/>
                </a:solidFill>
                <a:uFillTx/>
                <a:latin typeface="Times New Roman"/>
              </a:rPr>
              <a:t>Специфична т</a:t>
            </a:r>
            <a:r>
              <a:rPr b="1" i="1" lang="sr-CS" sz="3200" spc="-1" strike="noStrike" u="sng">
                <a:solidFill>
                  <a:srgbClr val="000000"/>
                </a:solidFill>
                <a:uFillTx/>
                <a:latin typeface="Times New Roman"/>
              </a:rPr>
              <a:t>ерапија</a:t>
            </a:r>
            <a:r>
              <a:rPr b="1" i="1" lang="sr-Latn-CS" sz="3200" spc="-1" strike="noStrike" u="sng">
                <a:solidFill>
                  <a:srgbClr val="000000"/>
                </a:solidFill>
                <a:uFillTx/>
                <a:latin typeface="Times New Roman"/>
              </a:rPr>
              <a:t>: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кортикостероид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имуносупресив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Са њом се започиње када се постави дијагноза нефротског синдрома, јер се зна да деца у узрасту од 2-6 година најчешће имају хистолошки минималне промене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MCNS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. Наведена специфична терапија се обично започиње давањем Пронизона (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Преднисона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) и она има две фаз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Пронизон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 os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континуирано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 4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недеље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најчешће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два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пута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дневно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не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више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од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60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g/m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²/2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затим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се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прелази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на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сваки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други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дан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алтернативно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).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Дозе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се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смањују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полако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до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искључивања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Смањивање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лека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је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постепено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недељно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од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2,5-5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g,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зависи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од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реаговања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на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пронизонску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терапију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болесника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539280" y="1600200"/>
            <a:ext cx="7993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Рецидив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се такође лечи Пронизоном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60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g/m</a:t>
            </a:r>
            <a:r>
              <a:rPr b="0" lang="sr-Latn-C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/2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или мањом дозом 40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g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sr-Latn-C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до губитка протеинурије и још 3 дана, а затим се прелази на алтернативни начин лечења још 4 недеље, са сма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њ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ењењем дозе постепено, до искључењ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Arial"/>
              </a:rPr>
              <a:t>Статистички подац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398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е постоји разлика међу расама у испољавању  АПСГН; ово важи за све етничке и културне груп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Болест је чешћа код особа мушког пола у свим регионима света и то тако да се однос мушког према женском полу креће од 1,7 до 2 : 1; разлог за ову предоминацију није позна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АПСГН је евидентиран код старца од 90 година и одојчета од годину дана, али је највећа учесталост обољевања код деце старости 4-12 година са пиком у узрасту 5-6 год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06668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Arial"/>
              </a:rPr>
              <a:t>Етиологиј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48640" indent="-5486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За доказивање АПСГН неопходно је да постоје имуни комплекси, састављени од специфичних антитела усмерених против стрептококних антигена, који су локализовани на зиду гломеруларних капилара и који доводе до активације система комплемента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48640" indent="-5486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Најмање за два антигена изолована из нефритогених типова стрептокока се верује да су у стању да иницирају имунолошки одговор. То су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486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1. Зимоген-прекурсор егзотоxина Б (SPEB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486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2. Глицералдехид фосфат дехидрогеназа (GAPDH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Arial"/>
              </a:rPr>
              <a:t>Патофизиологиј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Клиничке манифестације  су директно или индиректно резултат гломеруларног инфламаторног одговора чији степен дефинише тежину симптома и знакова болести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Запаљење гломерула (ћелијска пролиферација и едем) смањује гломеруларну филтрацију; редукција филтрације и нормалне тубуларне функције води до повећане реапсорпције воде и соли, што резултира у олигурији и појави едема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Повећање волумена екстрацелуларне течности доводи до повећања системског притиска, што може бити једно од објашњења највероватније мултифакторијално узроковане хипертензије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Arial"/>
              </a:rPr>
              <a:t>Гломерулопатиј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500040" y="1428840"/>
          <a:ext cx="8286840" cy="4211640"/>
        </p:xfrm>
        <a:graphic>
          <a:graphicData uri="http://schemas.openxmlformats.org/drawingml/2006/table">
            <a:tbl>
              <a:tblPr/>
              <a:tblGrid>
                <a:gridCol w="4143240"/>
                <a:gridCol w="4143600"/>
              </a:tblGrid>
              <a:tr h="106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фритични синдром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sr-C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фротски синдром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8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крохематурија гломерулског порекла (цилндри)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сивна протеинурија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мерена протеинурија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ипопротеинемија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лигурија (снижена гломерулска филтрација)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иперлипидемија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деми и Хипертензија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деми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06668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Arial"/>
              </a:rPr>
              <a:t>Клиничка сли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Латентни период од почетка стрептококне инфекције до развоја клиничке слике АПСГН се креће од 7 до 21 д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Макрохематурија и/или едем представљају најчешћу клиничку манифестацију болести; настају нагло и могу бити удружени са различитим степеном слабости, летаргијом, анорексијом, главобољом и абдоминалним бол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Едем се налази у приближно 85% пацијената; обично настаје изненада и прво захвата периорбитални преде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Макрохематурија (урин се описује као чађав, боје кока-коле или рђе) је почетни симптом код 30-50% деце хоспитализоване због АПСГ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08T22:08:22Z</dcterms:created>
  <dc:creator>DR DJOLE</dc:creator>
  <dc:description/>
  <dc:language>en-US</dc:language>
  <cp:lastModifiedBy>User</cp:lastModifiedBy>
  <dcterms:modified xsi:type="dcterms:W3CDTF">2014-08-12T12:46:58Z</dcterms:modified>
  <cp:revision>216</cp:revision>
  <dc:subject/>
  <dc:title>Slide 1</dc:title>
</cp:coreProperties>
</file>