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7ACC-B527-485B-B623-24974D33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21E0-2D79-4562-813D-7077A980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602C-831C-4B86-B706-CEABD5BD9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8C0-9D5E-47C0-A3CB-00E1812C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C0E-6BFB-486B-808E-8B142CD8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C01-A9D7-496D-92AB-41244748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4B3-1557-4CED-9D33-66D1D641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120-2C9F-4240-869E-A1E17CE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024-CF9B-4874-91E8-CCBE6CE9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B3E-54F9-4C2A-8F5F-6D0A7BF7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89E-B3A5-43BE-974E-43CDAA7F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A12-F8DB-4E92-9A50-FE946BB0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D4B-859F-4FC0-962C-100378FE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FAF-682A-44F6-A2DC-7252FAE6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94C-33A3-41D5-BF79-3499EDED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1E28-C88C-499C-98B8-E89268D05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2933280"/>
            <a:ext cx="7854840" cy="180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1280" y="3360600"/>
            <a:ext cx="79930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СПИТИВАЊЕ ФУНКЦИЈЕ БУ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р Ана Вуј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70836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КУНДРАНЕ ГЛОМЕРУЛСКЕ БОЛЕ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и у току хронич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»Good Pasture«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0040" y="1428840"/>
          <a:ext cx="8286840" cy="41162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 снижена гломерулска филтрација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МУНОГЛОБУЛИН А НЕФР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глобулин 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 обухватају групу гломерулских болести које имају заједничку имунско-морфолошку карактеристику-налаз дифузно распоређених депози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прегледу помоћ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икро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код деце и код одраслих много су чешће и клинички значајније примарне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N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gerov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Берже) болест-  водећи узрок терминалне инсуфицијенције бубрега код одраслих са примарним гломерулопатиј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 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noch-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lein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oј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пур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912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ичности измеђ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 бројне и велике што оправдава схватање да су то врло сродна станја, с тим шт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 моносимптоматски, 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и облик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акутна болест са непрогресивним гломерулским ле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хронична болест споре прогресије која може да еволуише у хроничну инсуфицијенцију бубрег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астана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 бити одговорно више механизама тако да код исте особе може, у исто или различито време, да буде активирано више процеса који воде настанку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они воде дефектној контроли  продук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резултира у стварању ненормално гликозилисано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се потом таложи у гломеру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интеракцији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зангијумске ћелије секретују цитокине који изазивају инфламац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AF, IL-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IL-b, TNF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MIF) и протеине матри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зија мезангијума у даљој еволуцији, води ка резолуцији или прогресивној склерози што зависи од тога да ли је дошло до секундарног оштећења под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ична презента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макроскопса хематурија, истовремено или 1-2 дана по почетку инфекције горњих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траје 1-15 дана и праћена је тупим болом у леђ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 рецидива и дужина интервала између њих су варијабилни, али се по правилу проређују са у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деце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налаз ће бити изолована микроскопска хематурија која се, код 80% оболелих, јавља у року од 4 недеље од почетка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ицијана макрохематурија може да траје неколико дана до неколико недеља и обично је удружена са јаком, али пролазном протеинур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тежа је клиничка презентација под сликом нефритичко-нефротског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 И ПРО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а концентрација IgA у серуму налази се и у IgAN и у HSN код 30-70% оболелих и то само у акутној фази и није од значаја за 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се код 70% оболелих карактерише рецидивима макроскопске хемету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налази који код деце указују на лошу прогнозу су: нефротски синдром, перзистентна протеинурија јача од 1г/24h и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 ХЕМАТУРИЈЕ КОД 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B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налази код 20-50% болесника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ле 20-30 година 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узрок терминалне инсуфицијенције бубрега код 5% деце у Европи.  Забрињавајуће је да функција бубрега може да се погорша и после комплетног клиничког опоравка који је уследио 2 године од почетк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дашњи терапијски протоколи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ени су ка модулацији реакције гломерула на депоновање комплек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ем да се смањи оштећ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ткива и прогресија ка склеро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дије указују да код пацијената са умереном или јаком протеинуријом, али са нормалном или благо сниженом функцијом бубрега, терапија кортикостероидима (0,5-2 године), путем смањења јачине протеинурије, превенира доцнију прогнозу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и или у комбинацији са антагонистима рецептора ангиотензи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 снажно оправдање у терапи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не само да утичу на хипертензију и протеинурију него успоравају еволуцију бол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 је неопходна код деце са дифузном ендо и екстракапиларном пролиферацијом и клиничком сликом нефротског или нефритичког синдрома са нарушеном функцијом бубрега (велике дозе преднизолона, циклофосфамид са или без антикоагулантних или антитромбоцитних ле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727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87280" y="1057320"/>
          <a:ext cx="7201080" cy="5400720"/>
        </p:xfrm>
        <a:graphic>
          <a:graphicData uri="http://schemas.openxmlformats.org/drawingml/2006/table">
            <a:tbl>
              <a:tblPr/>
              <a:tblGrid>
                <a:gridCol w="2781360"/>
                <a:gridCol w="2129040"/>
                <a:gridCol w="229068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тни 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./нефрот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 з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тел. полумесе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. фиб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 компл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S-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АПСГ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фритис 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о, имунолошким механизмима изазвано запаљење бубрега, које настаје, секундарно, као последица инфекције гуше или коже нефритогеним типовим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емолитичког ст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 3: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B (SP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8840" y="301320"/>
            <a:ext cx="795636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g/m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д; само 2-5% деце са АПСГН има протеинурију нефротског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C5 и проп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на такође оп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Хематурија означава присуство крви у мокраћ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ХИС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15640"/>
            <a:ext cx="85107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341360"/>
          <a:ext cx="8229600" cy="425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рпура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107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амн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лична, породич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преглед  (мерење артеријског прити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абораторијско испит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КС,, азотне материје у крви и урину, коагулациони статус, C3,C4,ANA,AS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, уринокул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утарњи ур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/Cr &lt;0,57mmol/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4h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Ca&lt;4mg/kg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хосонографија бубрега и уро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радиолошко испитива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VP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C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која траје дуже од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у комбинацији са повишеним серумским креатининином, сниженим компонентама комплемен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3,C4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ом или хипертенз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бар 2 епизоде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у смислу хематурије, азотемије, наглувости, бубрежне инсуфицијенције, умирања од болест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су најбитнији крутеријуми за биопс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патолошки налаз с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и Алпортов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у са рекурентном хематуријом треба контролисати 1-2 пута годишње, у току 8-10 година, због могућих комплик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на инсуфициј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р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3,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8600" y="2874600"/>
            <a:ext cx="61722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ТЕИНУРИЈА СЕ ДЕФИН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ШЕ КАО ЕКСКРЕЦИЈА ПРОТЕИНА ИЗНАД ПРОСЕЧНЕ ДНЕВНЕ ЕКСКРЕЦИЈЕ КОД ДЕЦЕ ОДРЕЂЕНОГ УЗРА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Ако се мери у мировању нормалне вредности су до 60mg/m2/24h што одговара 100mg/24h,осим код новорођенчади код којих је нормална протеинурија 150-240mg/m2/24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ичину и састав протеина у урину здравих особа одређују 3 проц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ломерулска филтрација протеина пла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тубулска реапсорпција филтрованих протеина-процесом ендоцит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екскреција тубулских протеина(»секреција« протеина)-Tamm-Horsfallov прот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000" y="404640"/>
            <a:ext cx="7926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ломерулска филтрација протеи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виси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собине протеина (молекулска маса, величина, конфигурација и електрични набој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онцентрације у плаз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труктурног и функционалног интегритета гломерулске филтрационе бариј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ритиска у гломерулима и протока крви, који одредјују величину ултрафилтр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ротеини мале мол. масе (албумини,пептидни хормони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деривати Ig, бета-2 микроглобулин, лизоз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зитивно наелектрисани молек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већање онкотског притиска у глом. капиларима или сманјење протока кроз 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спокска хематурија (МХ) -0,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ви у 5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дљива голим оком, урин замућен и промењене бо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црвено, розе, браон, ц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кроскопска  хематурија (мх)-3 или више Ер у видном пољу на великом увеличању микроскопа, открива се хемијским тестовима и/или микроскопским прегледом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рин бис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У урину здравих особа 60% чине протеини плазме (40% албумини), а око 40% су ткивни протеини (углавном Tamm-Horsfall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се често открива рутинским прегледом урина код деце без клиничких симп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ориметријским тестом са индикатором на папиру (тест траке) се семиквантитативно процењује концентрација протеина у ур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685800" y="285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br>
              <a:rPr sz="38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r>
              <a:rPr b="0" lang="sr-C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Albustix,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14760" y="1785960"/>
          <a:ext cx="3643200" cy="320040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dl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642960" y="521496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ст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 траке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тетрабромо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нол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плав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олориметри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јски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промена боје од жуте ка плавој означава количину протеина у у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нзитивност и специфичност за албумине&gt;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3895560" cy="72216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+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6200" y="1413000"/>
            <a:ext cx="3897360" cy="720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-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1320" y="2133720"/>
            <a:ext cx="4041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урин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ециф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чна тежина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макрохематур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ри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дуго држање траке у урин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е трака изложи млазу ури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у у урину присустни 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назо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иди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тер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мон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састојц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3280" y="2349000"/>
            <a:ext cx="3897360" cy="20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ри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ец. теж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.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 албумински протеини: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MP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обулини, мукопроте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Bence-Jones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в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те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скорбинска 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212400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651996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3080" y="907920"/>
          <a:ext cx="5143680" cy="4272120"/>
        </p:xfrm>
        <a:graphic>
          <a:graphicData uri="http://schemas.openxmlformats.org/drawingml/2006/table">
            <a:tbl>
              <a:tblPr/>
              <a:tblGrid>
                <a:gridCol w="2801880"/>
                <a:gridCol w="2341800"/>
              </a:tblGrid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/l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мућ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 од цигарете” </a:t>
                      </a:r>
                      <a:r>
                        <a:rPr b="0" lang="sr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-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ирно заму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ње :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-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без преципитације (виде се тамне линије на белој подлози) 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: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-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са преципитациј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-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аст т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Box 3"/>
          <p:cNvSpPr/>
          <p:nvPr/>
        </p:nvSpPr>
        <p:spPr>
          <a:xfrm>
            <a:off x="755640" y="530064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3 кап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20%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улфосалицилне киселине у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замућења урина показује величину протеину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За разлику од тест трака открива и нискомолекуларну (тубулску) протеинур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429080" y="178596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eorgia"/>
                <a:ea typeface="Arial"/>
              </a:rPr>
              <a:t>Лажно  +   на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код употре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цефалосп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и.в. контрасна средства </a:t>
            </a:r>
            <a:r>
              <a:rPr b="0" lang="sr-Latn-CS" sz="2000" spc="-1" strike="noStrike">
                <a:solidFill>
                  <a:srgbClr val="000000"/>
                </a:solidFill>
                <a:latin typeface="Georgia"/>
                <a:ea typeface="Arial"/>
              </a:rPr>
              <a:t>(24 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концентрован у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фосф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пеници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сулфонам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Лажно  -   на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 тежина урина&lt;1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1"/>
          <p:cNvSpPr/>
          <p:nvPr/>
        </p:nvSpPr>
        <p:spPr>
          <a:xfrm>
            <a:off x="5867280" y="1890720"/>
            <a:ext cx="35748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5727600" y="563868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268280"/>
            <a:ext cx="8201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У 24-часовној колекцији урина вредности изнад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150mg/dan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реба сматрати 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олошк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од млађе деце, где се тешко сакупља урин, користи се однос протеини/креатинин у 1 узорку ури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mg/mg) &lt;0,2 означава нормалну екскрецију проте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2-0,5 минимал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5-2  умере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&gt;2 нефротск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КЛАСИФИКАЦ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) НЕ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) 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НЕ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3440"/>
            <a:ext cx="821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на није резултат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1g/24h или 2+ на тест траци; транзиторна је или интермитент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остурална (ортосtаtска)-tесt зa орtосtatску протеинурију -налаз нормaлне екскреције протеина у лeжeћeм (&lt;4mg/m2/h) и повећане екскреције у усправном положа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у току фебрилности-код температуре&gt;38,3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код физичких вежби или напора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267920"/>
            <a:ext cx="820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ска протеинурија је резултат болести бубре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реће се у распону 1g-30g/l; перзистентна је и праћена знацима основне бол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фротски синдром (Идиопатски, конгенитални, инфантил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онефритис  (Постинфекцијски; SLE; примарни-МП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ронични пијело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 МЕСТУ НАСТ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р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РЕН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убулска протеинурија је резултат смањене реапсорпције и губитка протеина мале молекулске масе урин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 1g/24h; перзистентна је и праћена је знацима дисфункције проксималног тубула (гликозурија, фосфатурија, губитак бикарбоната и аминоацидурија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аследне болести (Цистиноза, Sy. Lowe; Wilsonова болест; Галактозем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Стечене болести (ТИН, Акутна тубулска некроза; Тровање тешким метали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Diagram 2" descr=""/>
          <p:cNvPicPr/>
          <p:nvPr/>
        </p:nvPicPr>
        <p:blipFill>
          <a:blip r:embed="rId1"/>
          <a:stretch/>
        </p:blipFill>
        <p:spPr>
          <a:xfrm>
            <a:off x="-6480" y="1195560"/>
            <a:ext cx="9156960" cy="5467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7236000" y="2643120"/>
            <a:ext cx="172872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ередит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7429680" y="335772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9"/>
          <p:cNvSpPr/>
          <p:nvPr/>
        </p:nvSpPr>
        <p:spPr>
          <a:xfrm>
            <a:off x="7143840" y="3214800"/>
            <a:ext cx="85716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1"/>
          <p:cNvSpPr/>
          <p:nvPr/>
        </p:nvSpPr>
        <p:spPr>
          <a:xfrm flipV="1">
            <a:off x="8001000" y="3000240"/>
            <a:ext cx="144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3"/>
          <p:cNvSpPr/>
          <p:nvPr/>
        </p:nvSpPr>
        <p:spPr>
          <a:xfrm flipH="1">
            <a:off x="8001000" y="3214800"/>
            <a:ext cx="1440" cy="142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429680" y="407196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7308720" y="4786200"/>
            <a:ext cx="165600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6"/>
          <p:cNvSpPr/>
          <p:nvPr/>
        </p:nvSpPr>
        <p:spPr>
          <a:xfrm>
            <a:off x="7143840" y="4643280"/>
            <a:ext cx="8571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5"/>
          <p:cNvSpPr/>
          <p:nvPr/>
        </p:nvSpPr>
        <p:spPr>
          <a:xfrm>
            <a:off x="8001000" y="4500720"/>
            <a:ext cx="0" cy="28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Brace 12"/>
          <p:cNvSpPr/>
          <p:nvPr/>
        </p:nvSpPr>
        <p:spPr>
          <a:xfrm>
            <a:off x="1714680" y="3071880"/>
            <a:ext cx="214200" cy="171432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714320"/>
              <a:gd name="textAreaBottom" fmla="*/ 1708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0" y="357192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ортост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Болеснике треба контролисати на 6-12 месец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физикални преглед и мерење крвног прити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рутински преглед ур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лиренс креатин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дређивање укупне протеинурије у 24-часовном ури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603440"/>
            <a:ext cx="82011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ерзистентна асимптоматска протеинур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&gt;1g/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блага протеинурија која се компликује хематуријом,хипертензијом, сниженим комплемент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); смањеном функцијом бубрега или серолошким доказима системске болести вез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и хипоалбуминемија у узрасту &lt;1 или &gt;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ТЕРАП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ипротеинурични лекови умањују негативне ефекте протеинурије и успоравају прогресију болести ка бубрежној инсуфицијенциј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ЦЕ инхибитор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агонисти рецептора ангиотензина I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нестероидни антиинфламаторни лек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јске: узрок микрохематурије код 50% деце је 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ирусне: адено вируси тип 11 и 21 дају хеморагијске цис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ОЛИТИЈАЗА И ХИПЕРКАЛЦ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Х или РМХ или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зурија са стерилним уринокулту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 у трбу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.С. нема хиперкалц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ГЕНИТАЛНЕ АНОМ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дронеф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цистични бубр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lmsov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ЗИЧКИ НАПОР-МХ која траје 4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вероватније 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ОВИ- циклофосфамид изазива хемијски цис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ЛОШКИ УЗ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о 75% неизмењених еритроцита (биконкавни) на фазном микроскопу говори у прилог негломерулске хематурије (не треба биопс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исуство еритроцитних цилиндара је увек патолошки налаз који указује на гломерулску хематур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Е 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е макрохематур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портов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диопатска хематур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A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)M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)M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)RPGN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8:28:32Z</dcterms:created>
  <dc:creator>vvinfo</dc:creator>
  <dc:description/>
  <dc:language>en-US</dc:language>
  <cp:lastModifiedBy>User</cp:lastModifiedBy>
  <dcterms:modified xsi:type="dcterms:W3CDTF">2016-10-25T12:57:51Z</dcterms:modified>
  <cp:revision>40</cp:revision>
  <dc:subject/>
  <dc:title>Slide 1</dc:title>
</cp:coreProperties>
</file>