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camera.wav" ContentType="audio/x-wav"/>
  <Override PartName="/ppt/media/whoosh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8F3C-DD03-44DB-91E5-5F775E5D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F177-0236-42DF-8522-426291D8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FBFD-42FC-49FF-93B6-A3454B15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00AB-5C3D-466E-B109-7DEC8A4B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646C-4285-4276-A9E4-D8811D5A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83B-99A3-44F6-A982-44FBDAF7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91CC-4371-416E-AD4E-A615243A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51F2-7910-433A-9E2A-27CAC041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D68F-B722-41AD-8E51-2E1B4FD3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8BF5-1DFD-4DCE-AEB6-CF3C1C7E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71AA-515D-484C-9CB6-89012F97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FC09-2C81-473A-8349-AA640FA1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81ED-FE81-488B-AD40-A0293E27D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75076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кутна бубрежна инсуфицијен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56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708360" y="189000"/>
            <a:ext cx="1695600" cy="2361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Клиничка слик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Фаза опоравка – полиуриј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траје неколико да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апетит се поправља, али болесник “мршави” због појачане диурез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нагли пораст осмотски изазване диурезе јавља се као последица бржег опоравка гломерулске од тубулских функциј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побољшање општег стања праћено је нормализацијом биохемијских парамета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Лабораторијске анализ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реглед урина – седимент, уринокултура, биохем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реглед крв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електролити серума (K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Cа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ацидобазно стање (pH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уреа и креатинин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Мерење диурезе (катетер у м. бешици првих 48 сат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Times New Roman"/>
              </a:rPr>
              <a:t>Диференцијална дијагноза АБ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5800" y="1981080"/>
          <a:ext cx="7924680" cy="4141800"/>
        </p:xfrm>
        <a:graphic>
          <a:graphicData uri="http://schemas.openxmlformats.org/drawingml/2006/table">
            <a:tbl>
              <a:tblPr/>
              <a:tblGrid>
                <a:gridCol w="4000680"/>
                <a:gridCol w="2232000"/>
                <a:gridCol w="1692000"/>
              </a:tblGrid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ЕКСИ АБ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РЕНАЛ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НАЛ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МОЛАЛНОСТ УР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МОЛАЛНОСТ урин/плаз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ЕА урин/плаз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АТИНИН урин/плаз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 у УРИНU (m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Na   (uNa/pNa) :  (uCr/pCr) x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I    uNa : (uCr/pC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Терапија пре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Успоставити нормалну перфузију бубрега и диурез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20-30ml/kg 0,9%NaCl за 30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1-5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г/kg/min Допам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2-5mg/kг Фуросеми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ко диреза не наступи за 2-4h сматра се да је дошло до структурних оштећења бубре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Терапиј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Ограничити унос течности на 300-350ml/m</a:t>
            </a:r>
            <a:r>
              <a:rPr b="1" lang="sl-SI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24h или 15ml/kg плус екстра губитци (повраћање, пролив, знојењ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Кориговати електролитни дисбалан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K &gt; 7,5mmol/l : 0,2-05ml/kg 10% Ca-глуконата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2-3ml/kg NaHCO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или инфузија глукозе са инсулино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K &gt; 6,5mmol/l : 0,5g/kg смоле за размену катјон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орално у 100ml 10% глукоз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Ca &lt; 2mmol/kg : 0,5ml/kg Ca-глуконат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Кориговати ацидобазни дисбалан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pH &lt; 7-7,2 : 2-3ml/kg NaHCO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Обезбедити одговарајући калоријски унос давањем хипертоног раствора глукозе (400Kcal/m</a:t>
            </a:r>
            <a:r>
              <a:rPr b="1" lang="sl-SI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24h) чиме се смањује катаболизам, азотемија и хиперкалиј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Индикације за дијализ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нурија која траје дуже од 24-48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огоршање “уремичног ст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 &gt; 7,5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a &lt; 120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H &lt; 7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Уреа &gt; 40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Акутна бубрежна инсуфицијенциј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6920" y="198900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АБИ је клиничко стање које карактерише нагло смањење функције бубрега у тој мери да не може да се одржи водено електролитна хомеостаза и излуче продукти азотног метаболиз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олигоанурија: диуреза мања од 200-250 ml/м</a:t>
            </a:r>
            <a:r>
              <a:rPr b="0" lang="sl-SI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/24h или мања од 10 ml/h код малог детета или мања од 0,5-1ml/kg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повећање концентрације урее и креатинина у серуму за 2 до 2,5 пута у односу на референтне вредности за узраст дет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Подела АБИ по етиопатогенез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Преренална АБИ –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ренална хипоперфузија и смањење ЈГФ (реверзибилно, без структурног оштећењ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Ренална АБИ –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ко исхемија предуго траје долази до органских промена на тубулима и развоја акутне тубуларне некроз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Постренална АБИ –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настаје због опструкције уринарних пут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Узроци пре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Хемодинамски факто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хемораг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тешка дехидрација (повраћање и проли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шок (септички, постоператив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губитак у “трећи простор” (асцитес, плеурални изли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Срчана инсуфицијен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Токсични факто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ендогени (миоглобин, хемоглобин, кристал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егзогени (антибиотици, тешки метал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Узроци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остисхемична АБ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акутна тубулска нефроз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Гломерулонефритис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АПГН, рапидно прогресив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Васкулитс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ХУС, ДИК, тромбозе и емболиј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Интерстицијски нефритис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инфекције, лекови)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кутизација ХБ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ЈГФ пада за 1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Узроци пост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Опструктивне уропат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конгениталне (VP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стече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Калкулоз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Тумо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ренал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екстраренал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Times New Roman"/>
              </a:rPr>
              <a:t>Клиничка слика пререналне АБ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Зависи од узро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У деце и одојчади преренална АБИ најчешће настаје збод тешке дехидрације (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сува кожа без тургора и еластицитета, суве слузокоже, упале очне јабучице)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коју прате симптоми циркулаторне инсуфицијенције (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бледило, хладни екстремитети, хипотензија, слаб и убрзан пулс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Клиничка слик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Класичан клинички ток АБИ пролази кроз три јасно дефинисана клиничка стадијум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Иницијална фа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траје неколио дана до две недељ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болесник често није ни свестан обољења, може да има изражен “централни” осећај жеђ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јачина диурезе и осмоларност урина су смањени (Uosm = 350mosm/k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Клиничка слик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Фазa одржавaњ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траје нeколико сати до једнe nедeљ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знаци прогrесивне азотемије: 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бледило, малaксалост, отoци л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ца, aцидотично дисање, губитак aпети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а, повраћaње, штуцање, грчев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појавa компликација: 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едeм плућа, енцeфалопатија, дигестивна крва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ења, инфекциј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олигоанурија уз пораст осмoларности урина Uosm = 1000mosm/k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днев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и пораст aзo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eм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јe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 eлeк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тр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литни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поремећај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20:49:49Z</dcterms:created>
  <dc:creator>Impuls</dc:creator>
  <dc:description/>
  <dc:language>en-US</dc:language>
  <cp:lastModifiedBy>User</cp:lastModifiedBy>
  <dcterms:modified xsi:type="dcterms:W3CDTF">2014-08-12T13:14:09Z</dcterms:modified>
  <cp:revision>25</cp:revision>
  <dc:subject/>
  <dc:title>Akutna bubrežna insuficijencija</dc:title>
</cp:coreProperties>
</file>